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CE8F-C151-42B4-BF03-2879F7678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9F42-5595-425E-AF1F-CD601ABC7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0FC7-91A7-41AA-94B9-D7F8E79C2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CE4F-801C-44BF-AC23-C5E408A00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5C0A0-4FB2-4894-BF19-AD573EE15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5461E-E1A3-4B46-B424-712F1911D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F76BD-ABD0-4BEF-BD1F-5D93F502C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4F4B8-B23D-49BB-8FD4-A2C057A44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0BA50-D95A-4DC9-A0E0-89C946ACE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73A4D-1EE9-45BD-861D-E73BD761D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18553-21AE-4427-9B11-C802F808B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D2F2-7045-42C3-A5EB-54B964A05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98837-9692-4244-AC19-D2F0108A6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323DF-3FCE-41E3-A8AF-CF44E0E0F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7A453-8960-4EB2-ADA7-C8CD6F0B9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1B91B-5E2B-4B3F-8A8D-DF290A6D6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87578-BF22-4672-A0D2-B28B637A4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B9A750-7B37-4564-A5BA-1A748997F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8D8814-2FD2-4046-AF1C-2F97167F2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3E6440-4E66-480E-B461-E9F36983E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F3ACD4-19ED-4D19-9C25-5E148DF65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70D2FB-47C6-4D31-B0CF-F85A69064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B985-2C63-422D-88E9-9CFDE4729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28A830-199B-48DE-A40D-BAD21FE41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26B9E1-5552-4C9D-9481-01B089953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D0BA4B-21B7-4E1A-9932-3781C7111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06412D-67F6-4199-8B1A-640006F8C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2F7950-87EE-4C4F-8DEB-3925BD315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97DB8D-FC4A-48FF-89AA-F00DE2CAE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9A4E78-9C2C-4EA8-88E7-AE58D6A20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5432A0-2B52-4E52-AA05-496C000C4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483846-E5FF-475B-AE10-2C427BFDA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93927E-AD9E-45E5-A9A3-47EBB83EA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94C4-FA3E-4630-8AD3-1191F8160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1216E9-ABA2-45DF-962A-7597C5D77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99CBDD-8ADD-4F7B-BAC7-8A4212F81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C4A3A2-5F43-4792-A712-B30CE3533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FF0C9A-9D51-4451-B0BF-9213FD659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CD2B07-D669-46B7-80A1-0CEC6CF71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46992D-44E4-4221-B5C8-AB8841E67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582BEC-7295-4ECB-B11F-C99D35A47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1B7545-2E56-49BF-A069-1C587B6C9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BD9E46-945E-4D2D-BE5D-BCACE70E2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3149C8-2143-4D06-8B2D-8E7D309AD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A28D-8842-48E8-A823-198D4A06D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1A19CF-1970-418F-9795-D86386F77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5A7417-370C-41DA-99B3-FE26C5CE9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03DEDD-43A7-4DF4-B4AF-7A51CB21F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DD81EB-19B3-4B5D-A79D-B4F980A06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B002FF-358C-46BD-9C3F-E8BB8EF63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97CB10-F7EF-4FB8-A22D-783506D39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D21196-7BFB-4551-BE10-401B2B0B7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04BDFC-5C4B-4789-A256-CBDA1DF22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E4950C-5813-410A-8434-1F6857648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BF8B22-A98B-4F21-816B-C65FDFB44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DF5F-D7CA-4873-B38A-5CEC44A9B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BFA238-717F-4DB3-9F7B-103579AC5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5216-BDC2-4806-892C-A8F8CCB9A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9C71-45BF-45ED-B40B-52FA043B6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C661-9123-4EF3-A012-8D527B491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FC820-B269-4F29-AE06-0A602346FC19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4370A-05AB-4149-9AE6-E2EAB44B7B9C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A0096-7020-4B92-8E87-3BAAF6F6A35B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34837-D4A5-4A32-A64F-2C2E387009D8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64D82-4C6B-4120-9D9F-E115B1E678C4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22160" y="642960"/>
            <a:ext cx="7772400" cy="3006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8d3e"/>
                </a:solidFill>
                <a:latin typeface="Verdana"/>
              </a:rPr>
              <a:t>ОБОБЩАЮЩИЙ УРОК ПО ТЕМЕ «СОЮЗ»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722160" y="4362480"/>
            <a:ext cx="7772400" cy="6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" spc="-1" strike="noStrike">
              <a:solidFill>
                <a:srgbClr val="79766f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Verdana"/>
              </a:rPr>
              <a:t> 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сли </a:t>
            </a:r>
            <a:r>
              <a:rPr b="1" i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же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и </a:t>
            </a:r>
            <a:r>
              <a:rPr b="1" i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бы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опустить нельзя, пиши слитно. Если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же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 </a:t>
            </a:r>
            <a:r>
              <a:rPr b="1" i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бы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можно опустить, пиши раздельно. Союз зато = но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то(же) сегодня придет. Он придёт на то(же) место. Он так(же) поступил в музыкальную школу. Надо сделать подарок бабушке что(бы) порадовать её. Мы долго думали что(же) подарить бабушке. Спрячься за(то) дерево. Не очень ловок за(то) говорлив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3280" y="428760"/>
            <a:ext cx="81835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Вспомним подчинительные союзы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503280" y="1714680"/>
            <a:ext cx="8183520" cy="43574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Временные (указывают на время)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Причинные (указывают на причину)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Целевые (указывают на цель)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Условные (указывают на условие)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Уступительные (указывают на уступку)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Сравнительные (указывают на сравнение)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Следственные (указывают на следствие)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Изъяснительные (указывают на то, о чем говорится в предложении)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03280" y="499680"/>
            <a:ext cx="81835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Подчинительные союзы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03280" y="1714680"/>
            <a:ext cx="8183520" cy="4572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Расставьте запятые, поставьте вопросы к зависимым предложениям, укажите вид союзов, составьте схемы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Ямщики подвязали колокольчик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 звон не привлек внимания сторожей. 2.По синим волнам океана лишь звёзды блеснут в небесах корабль одинокий несётся несётся на всех парусах.3. Все возы потому что на них лежали тюки с шерстью казались очень высокими и пухлым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3280" y="428400"/>
            <a:ext cx="81835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Различайте союзы и местоимения, дайте разъяснения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14080" y="1428840"/>
            <a:ext cx="3932280" cy="4572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Он не пришёл потому что заболел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Он не пришёл оттого что заболел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От того берега отчалила лодка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756320" y="1499760"/>
            <a:ext cx="3930480" cy="43578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По тому болоту пройти нельзя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А кто их разберет, что они кричат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28760" y="428760"/>
            <a:ext cx="81835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Немного отдохнем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14080" y="1213920"/>
            <a:ext cx="3932280" cy="47149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Шарад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е ноты, союз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вместе – игра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оторую любит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ть детвора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юз, предлог и падежная форма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ного местоимения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ют вкусный плод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жноамериканского растения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756320" y="1499760"/>
            <a:ext cx="3930480" cy="4429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й первый слог – на дерев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торой мой слог – союз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в целом я материя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на костюм гожусь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3280" y="357120"/>
            <a:ext cx="81835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Найти союзы, указать их разряд,  расставить знаки препинания</a:t>
            </a: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503280" y="1643040"/>
            <a:ext cx="8183520" cy="42861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Отцветает черёмуха зато расцвела бузина и под нею земляника. 2. Марьяна улыбалась редко но её улыбка всегда поражала. 3.В деревню мы собирались затем чтобы отдохнуть собрать ягод  и грибов позагорать и покупаться.4.Лошадь не могла сдвинуть воз потому что заднее колесо соскочило. 5.Нет ничего в мире что могло бы прикрыть Днепр.6.Я склонился к реке но и там тоже колыхались и дрожали звёзды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00040" y="785880"/>
            <a:ext cx="81835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Самостоятельная работ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03280" y="1499760"/>
            <a:ext cx="8183520" cy="32180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Творческая рабо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чинение-миниатюра «Компьютер в моей жизни» с использованием сочинительных и подчинительных союзов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Заголовок 4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 txBox="1"/>
          <p:nvPr/>
        </p:nvSpPr>
        <p:spPr>
          <a:xfrm>
            <a:off x="503280" y="2071440"/>
            <a:ext cx="8183520" cy="26463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юз – неизменяемая часть речи, которая не является членом предложения, связывает однородные члены, части сложного предложения и самостоятельные  предложения целого текст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3280" y="357120"/>
            <a:ext cx="818352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Эпиграф к уроку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503280" y="2214720"/>
            <a:ext cx="8183520" cy="25034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.Ломоносов так определял роль союзов: «…Союзы не что иное суть, как средства, которыми идеи соединяются»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3280" y="356760"/>
            <a:ext cx="818352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Разминка </a:t>
            </a:r>
            <a:br>
              <a:rPr sz="3200"/>
            </a:br>
            <a:r>
              <a:rPr b="1" lang="ru-RU" sz="32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(тест с взаимопроверкой)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14080" y="1428840"/>
            <a:ext cx="3932280" cy="4643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1.В каждом столбике укажи союз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а) то же;      г) и так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б) так что;   д) также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в) что же;    е) так же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2.В каждом ряду выдели </a:t>
            </a:r>
            <a:r>
              <a:rPr b="0" lang="ru-RU" sz="2400" spc="-1" strike="noStrike">
                <a:solidFill>
                  <a:srgbClr val="323232"/>
                </a:solidFill>
                <a:latin typeface="Times New Roman"/>
                <a:ea typeface="Times New Roman"/>
              </a:rPr>
              <a:t>сочинительный союз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а) также, так как, что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б) если, то…то, будт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в) едва, потому что, н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756320" y="1499760"/>
            <a:ext cx="3930480" cy="4429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Определи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23232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323232"/>
                </a:solidFill>
                <a:latin typeface="Times New Roman"/>
                <a:ea typeface="Times New Roman"/>
              </a:rPr>
              <a:t>причинный союз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будто, словно, потому чт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323232"/>
                </a:solidFill>
                <a:latin typeface="Times New Roman"/>
                <a:ea typeface="Times New Roman"/>
              </a:rPr>
              <a:t>временной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, пока, точно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323232"/>
                </a:solidFill>
                <a:latin typeface="Times New Roman"/>
                <a:ea typeface="Times New Roman"/>
              </a:rPr>
              <a:t>изъяснительный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скоро, что, оттого чт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3280" y="356760"/>
            <a:ext cx="81835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Продолжение тест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503280" y="1642680"/>
            <a:ext cx="8183520" cy="40719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Части какого предложения связаны сочинительным союзом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Что легко достается, то дёшево ценитс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В комнате было тихо, во всем доме тоже не было звуков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Необходимо выйти рано, чтобы вовремя достичь перевал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Учитель похвалил ученика за то, что он хорошо подготовился к зачёту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28760"/>
            <a:ext cx="81835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Продолжение тест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28760" y="1500120"/>
            <a:ext cx="7572240" cy="45007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Выпиши номера, где необходимо поставить запяты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Мы очень поздно вышли из дома(1) вследствие чего(2)не успели к открытию спартакиады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Слышится(1)то шёпот(2)то осторожный шелест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Отряд остановился(1)так(2)как впереди была отвесная скал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Для того(1)чтобы добраться до озера(2) потребовалось немало времен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3280" y="499680"/>
            <a:ext cx="81835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Ключ к тесту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03280" y="1499760"/>
            <a:ext cx="8183520" cy="46436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б, д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тоже, то..то, н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потому что, пока, чт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б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а)-1; б)-2; в)-1; г)-1; д)-2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ите по шкале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5» - нет ошибок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4» - одна ошибк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3» - две ошибк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2» - более двух ошибок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3280" y="356760"/>
            <a:ext cx="81835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Синтаксическая пятиминутк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03280" y="1500120"/>
            <a:ext cx="8183520" cy="45007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  </a:t>
            </a:r>
            <a:r>
              <a:rPr b="1" i="1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Спишите, вставляя пропущенные буквы. Составьте схему второго и третьего  предложений, укажите роль союзов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В_л_чайшее б_га_ство народа – его язык! 2.Тыс_ч_летиями накапл_ваю_ся и вечно живут в слов_ (не)сметные сокров_ща ч_л_веч_ской мысли и опыта.  3.Прав был В.Г.Белинский, утверждая, что «язык живёт вместе с жизнью народа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3280" y="357120"/>
            <a:ext cx="81835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Вспомним: Запятая между однородными членами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14080" y="1213920"/>
            <a:ext cx="3932280" cy="47149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авится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О, О, О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О, </a:t>
            </a:r>
            <a:r>
              <a:rPr b="0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(но, зато)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0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, </a:t>
            </a:r>
            <a:r>
              <a:rPr b="0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О </a:t>
            </a:r>
            <a:r>
              <a:rPr b="0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, О </a:t>
            </a:r>
            <a:r>
              <a:rPr b="0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О, </a:t>
            </a:r>
            <a:r>
              <a:rPr b="0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, </a:t>
            </a:r>
            <a:r>
              <a:rPr b="0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О, </a:t>
            </a:r>
            <a:r>
              <a:rPr b="0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а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</a:t>
            </a:r>
            <a:r>
              <a:rPr b="0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ак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, </a:t>
            </a:r>
            <a:r>
              <a:rPr b="0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к и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177800" y="1714680"/>
            <a:ext cx="3521160" cy="44114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 ставится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О </a:t>
            </a:r>
            <a:r>
              <a:rPr b="0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в устойчивых выражениях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нет перечисления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3280" y="428760"/>
            <a:ext cx="818352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Вставьте пропущенные буквы и знаки препинания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503280" y="1714320"/>
            <a:ext cx="8183520" cy="45003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</a:t>
            </a:r>
            <a:r>
              <a:rPr b="0" i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пишите, вставляя пропущенные буквы, найдите союзы, определите их группу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_й(час) и дома и на работе к_мп_ют_ры ст_новя_ся (не)зам_нимыми п_мощниками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 сколько разных свед_ний хр_нят к_мп_ют_ры в св_ей пам_ти! Они вс_гда к вашим услугам и в любой м_мент мгн_венно дадут нужную спра_ку. Как уч_ному так и врачу инж_неру и учит_лю  п_сат_лю и к_мп_зитору  к_нструктору и агр_ному – всем может помоч_ к_мп_ют_р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3T05:42:20Z</dcterms:created>
  <dc:creator>Admin</dc:creator>
  <dc:description/>
  <dc:language>en-US</dc:language>
  <cp:lastModifiedBy>Windows 7</cp:lastModifiedBy>
  <dcterms:modified xsi:type="dcterms:W3CDTF">2013-05-07T02:13:00Z</dcterms:modified>
  <cp:revision>107</cp:revision>
  <dc:subject/>
  <dc:title>Союзы</dc:title>
</cp:coreProperties>
</file>